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A055-7B36-454F-BCF3-80752C20A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2555-8265-4639-BB02-E47DA39B9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1824-723E-450B-AE9D-DBB498FAF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CBB2-69BE-4D0C-8C53-3A811B46C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6F9F-077A-486E-A572-692FB4172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8B3A-209F-4A81-ACC5-B94F14CC28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D687-C4CA-4746-B40C-8BE6E8154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9CEA-D130-4CF8-9D92-DEDF92A0C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7885-2E53-48A6-A5B8-BC031B532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D999-4A49-4D0F-86EA-92AFA8B1A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0707-8145-4EC4-AD89-A53018264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4507-F68D-4826-90E1-C5174C70C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2C62-81A3-44CA-8036-D1C7188A2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5E18-AA37-4E23-BFCE-1B9A63F72E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7E80-5B80-445F-B18F-46AB56499C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7F01-4483-41FB-B3A6-43426C102D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5E29-C799-4027-A8B7-60BDABC1AC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6AC8-E89B-434F-A7CD-73AF3A48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7D95-4BD5-42AB-91CA-ADFDBE89E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DD2E-7BB8-4C47-A1DB-DC9910B7E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DC30-8D30-473A-94B4-61876D167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0F37-AE2F-41BA-B8B6-ACB7189EB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BB8A-DC88-4BDE-B238-4A9D0A667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74A0-3F78-490F-AD1D-44EEC9C33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FEBC-5153-4E64-8E74-0EE8957B6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486-8735-40E8-A9F5-27D7AC434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sac.org/_res/documents/sl/pdf/2007_training/samples-checklist-income-survey.pdf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Dis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882D-0955-45D1-9FFC-321E6FE9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sions 1, 2, and 3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provisions under National School Lunch Act that allow schools that meet certain requirements to report to NSLP less often than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may ask for base-year documentation and state renewal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uses the student counts approved under the appropriate pro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6FE-070A-4F51-AA95-B5EA5EB3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 Start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Start is a federal program that provides comprehensive developmental services for low-income children ages three to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Start students meet free lunch guidelines under NSLP, so Head Start entities automatically qualify for 90%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under age three are never considered eligible and must be cost-allocat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ased Head Start is not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0B62-C98C-48B5-90F6-82DA1FD4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985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certification (NSL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cial services agency works with local educational authority to directly certify students for NSLP based on household participation in other poverty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will accept the student counts determined using this method if the school can demonstrate participation in direct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BB02-B91C-4114-89A3-C4E4674D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alternative discount mechanisms measure a level of poverty in a household equivalent to that required by NS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Eligibility Guidelines (IEGs) are published each year by the U.S. Department of Agriculture (US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% of the federal poverty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A62-1C67-4531-8C5E-6BE03ED2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ary Security Income (S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8 (federal public housing ass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come Home Energy Assistance Program (LIHE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3D5B-5B4F-4BF7-A6F0-AA121784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programs can be used as mechanisms ONLY IF their requirements are at least as stringent as I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rograms tha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qua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Aid to Needy Families (TA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1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larshi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B7B-2DA0-4786-8902-5EBC9851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can conduct surveys to establish eligibility (see </a:t>
            </a:r>
            <a:r>
              <a:rPr b="0" lang="en-US" sz="36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sample surv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ent to all families whose children attend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names of family an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size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tain income level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ust not be more than two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575-CD0E-4E45-90F1-FDD2DF4CA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SLP for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used as a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s can request information on household income level or participation in eligible alternative mechanisms or b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ain copies of all surveys for your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1EF1-D918-47A7-AD8B-3E1EC392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one exception, applicants must be able to provide data on an individual student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: if a school sends a survey to the households of all of its students and at least 50% of the surveys are returned, the school may project a percentage of eligibility based on the percentage of eligibility in the returne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AB1-4B63-4F44-B0DD-0F65ABCB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6760" y="15699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nts can match siblings or collect data from other existing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f a elementary school student from a household participates in NSLP, an older sibling in that household can be counted as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dequat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8143-AC36-4868-9E7B-7C015672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discount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discoun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Entity; Multiple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is based on the total enrollment for the entity and NSL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ocation receives the same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n entity number for each facility if the facility has a different address or a public right-of-way crosses the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D1B-04EC-41A1-B3F3-D4E771D7B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405-060F-463B-BEE1-C020A3D9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nstructional facilities are school buildings with (few or) no classrooms or library buildings with no publ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3660840"/>
            <a:ext cx="41148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ba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etic stad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800600" y="3656160"/>
            <a:ext cx="4114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mobile ga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1A0-4CBA-4420-B9C0-338B094E5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le for Priority 1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le for Priority 2 servic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ly i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rvices are essential for the effective transport of data to classrooms or public areas of a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936B-F3BF-4D1A-B658-6EF2FF15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s for NIFs without class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discount for a NIF on the same campus as a school or library is the same as the discount of the school or library (unless it is sha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F shared by more than one school in a school district or library in a library system is eligible for the shared discount for that school district or libr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0B8-4C0D-46D9-87C1-F0C24DB3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: To calculate the discount, complete two Form 471 Block 4 workshe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s all individual schools in the district or library outlets/branches in the library system to calculate the NIF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s only the entities shar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NIF on this worksheet with the calculated non-matrix (shared) discount from the first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 THIS worksheet in Block 5 Item 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DFBF-21F3-4BEB-AA30-39BAB0BB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instructional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IFs that contain classrooms should use the snapsho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pecific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ercentage of students eligible for NSLP for the student population that attends class on tha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percentage and the urban/rural status to find the discount in the Discount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you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s and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really a new school or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tate consider this a replacement facility for the same school or libra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use current discou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tate consider this a new school or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the may use New School Construction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C3C7-55C5-4523-B71A-125131ED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43B-B36F-43C5-B6BF-C529BA9C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chool is under construction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udent population is known, use the percentage of NSLP eligibility of those students to calculate th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use the weighted average discount of th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complete two Block 4 worksheets as discussed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7DD-FC62-4A57-BD90-EBEE6F7E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Library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library is under construction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imple percentage of NSLP eligibility for the school district in which the library building is located to calculate th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students eligible for NSLP in the school district divided by the total number of students in the school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School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and Privat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school district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provide support to show that specific population has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at data to calculate discou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2182-E8CD-4175-828F-DE3501B7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C67-8F51-467D-8B75-94B750B5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rate discounts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age of students eligible for the National School Lunch Program (NSLP) or an equivalent measure of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rban or rural status of the county or census tract in which the school or library building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may request third-party verification of student counts submitted by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0F61-B838-4F15-BA04-2D6BD54B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CE3-D744-44B9-A05D-3D1D9F80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unt Matri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523880"/>
          <a:ext cx="7619760" cy="4419720"/>
        </p:xfrm>
        <a:graphic>
          <a:graphicData uri="http://schemas.openxmlformats.org/drawingml/2006/table">
            <a:tbl>
              <a:tblPr/>
              <a:tblGrid>
                <a:gridCol w="3716280"/>
                <a:gridCol w="1774800"/>
                <a:gridCol w="21286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of Eligible Stud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- 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- 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- 4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-7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 -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7F7-E90F-4913-9D7D-2CB63103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school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percentage of students eligible for NSLP in th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urban or rural status of the county or census tract in which the school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A46-03BE-451E-AB98-EBC8ADBD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1520" y="1600200"/>
            <a:ext cx="83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istrict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individual school in th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weighted averag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chool, multiply the E-rate discount by the total student population of the school (the weighted produ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ll weighted products and divide by the total number of students in the school distri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A1AE-0470-4FD0-AAFB-959216ECA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outlet/branch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total percentage of students eligible for NSLP in the school district in which the library building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urban or rural status of the county or census tract in which the library outlet/branch is 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5E7-64B0-46A2-89DA-FD5AF4A8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11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system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library outlet/branch in the libr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simple average dis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gether the discounts for the outlet/branches and divide by the total number of outlets/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0B26-0243-4417-9786-749AD688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1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rtium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-rate discount for each individual member of the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simple average of all the member dis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Eflock</cp:lastModifiedBy>
  <dcterms:modified xsi:type="dcterms:W3CDTF">2009-09-18T16:38:27Z</dcterms:modified>
  <cp:revision>141</cp:revision>
  <dc:subject/>
  <dc:title>Slide 1</dc:title>
</cp:coreProperties>
</file>